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598" name="PlaceHolder 1"/>
          <p:cNvSpPr>
            <a:spLocks noGrp="1"/>
          </p:cNvSpPr>
          <p:nvPr>
            <p:ph type="hdr"/>
          </p:nvPr>
        </p:nvSpPr>
        <p:spPr>
          <a:xfrm>
            <a:off x="-36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35"/>
          </p:nvPr>
        </p:nvSpPr>
        <p:spPr>
          <a:xfrm>
            <a:off x="567648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00" name="PlaceHolder 3"/>
          <p:cNvSpPr>
            <a:spLocks noGrp="1"/>
          </p:cNvSpPr>
          <p:nvPr>
            <p:ph type="sldImg"/>
          </p:nvPr>
        </p:nvSpPr>
        <p:spPr>
          <a:xfrm>
            <a:off x="3287520" y="515520"/>
            <a:ext cx="3446280" cy="25844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601" name="PlaceHolder 4"/>
          <p:cNvSpPr>
            <a:spLocks noGrp="1"/>
          </p:cNvSpPr>
          <p:nvPr>
            <p:ph type="body"/>
          </p:nvPr>
        </p:nvSpPr>
        <p:spPr>
          <a:xfrm>
            <a:off x="1001520" y="3271320"/>
            <a:ext cx="8016840" cy="3100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2" name="PlaceHolder 5"/>
          <p:cNvSpPr>
            <a:spLocks noGrp="1"/>
          </p:cNvSpPr>
          <p:nvPr>
            <p:ph type="ftr" idx="36"/>
          </p:nvPr>
        </p:nvSpPr>
        <p:spPr>
          <a:xfrm>
            <a:off x="-360" y="6541560"/>
            <a:ext cx="4341960" cy="344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37"/>
          </p:nvPr>
        </p:nvSpPr>
        <p:spPr>
          <a:xfrm>
            <a:off x="5676480" y="6541560"/>
            <a:ext cx="4341960" cy="344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584759-C644-48C9-B883-4D8C4CC43134}"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3287880" y="515880"/>
            <a:ext cx="3446280" cy="2584440"/>
          </a:xfrm>
          <a:prstGeom prst="rect">
            <a:avLst/>
          </a:prstGeom>
          <a:ln w="0">
            <a:noFill/>
          </a:ln>
        </p:spPr>
      </p:sp>
      <p:sp>
        <p:nvSpPr>
          <p:cNvPr id="620" name="PlaceHolder 2"/>
          <p:cNvSpPr>
            <a:spLocks noGrp="1"/>
          </p:cNvSpPr>
          <p:nvPr>
            <p:ph type="body"/>
          </p:nvPr>
        </p:nvSpPr>
        <p:spPr>
          <a:xfrm>
            <a:off x="1001520" y="3271320"/>
            <a:ext cx="8016840" cy="310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Slide Number Placeholder 3"/>
          <p:cNvSpPr/>
          <p:nvPr/>
        </p:nvSpPr>
        <p:spPr>
          <a:xfrm>
            <a:off x="5676840" y="6541920"/>
            <a:ext cx="4341960" cy="344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EA0B60-41FD-4DD4-8107-0DEFD28247D6}" type="slidenum">
              <a:rPr b="0" lang="en-US" sz="1200" spc="-1" strike="noStrike">
                <a:solidFill>
                  <a:srgbClr val="003896"/>
                </a:solidFill>
                <a:latin typeface="Calibri"/>
              </a:rPr>
              <a:t>&lt;number&gt;</a:t>
            </a:fld>
            <a:endParaRPr b="0" lang="en-US" sz="12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26C2C3-8851-4FC7-901D-BFB82415C2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5D2B7504-01B0-4287-80F0-CA1C54177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2EA21A7-EA34-454A-AD61-796A64FB3BF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A3CA5D-9268-474C-A389-4187613EAF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33F6F95-2D63-4C28-A1C0-274C76D0995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DCBD19A-2630-482C-8BC2-27CADEA1954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3A9C66-13D0-4E5E-BCED-C1D1BC6E58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EB4491-A41D-4CCF-BE76-91B68C7981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CB369D3-3320-4974-9114-9CB41F63613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D4786B2-D042-406F-BCFC-13567EF6A15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5D2D68B-4F79-491C-BB2F-AE63E774CB2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B766DE8-7BD6-4765-9228-63064202736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9BB7082A-D563-43EC-86BD-8BD4AC77C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BB5618C-A7A0-4EC3-84B3-DE53580A307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E3B553-4B84-4BC5-9470-6C4963425BB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E357F46-5760-4489-B4C2-39CB92B08E5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2A7681A-8E6C-44AC-8F7A-2536667778D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13B7D5C-E994-48AD-B288-5B3A2F67448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334A6E-64D8-4001-95CA-3E33C371D7D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C4BAD2-ABDD-46B3-95E8-14BD5A66535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223EF0-E20B-44E5-AB28-E5543D9F427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9F38513-0C47-4A95-9FAF-3492BD594BE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BFB729F-9334-4A71-B3F0-146990D6EDE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C6CB4C5A-9169-4A78-AE1A-0D4BFF695EE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60B698A-66B4-47FA-A1E0-570CBC84CC7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2F1B852-16BF-4E9B-BA0F-2364D90C83E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3342567-02F2-4E54-89C7-1478EE6849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923C4AF-1AB7-43AC-AB9B-8FDD4F8B3B5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33DD46F-5FF2-4308-80F4-496DDF3FE8A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CB8606D-6747-4CD4-BF63-0E2A981117A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78AD2B0-DD44-4312-8D0F-BBCCF45A60C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D909912-1C2F-41EF-BC1C-98AF7637C48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BB24ED8-0FCF-4F3E-8284-55B76CF1CB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161149-83F8-4CA0-A8F0-D23D98276B7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567969C-2C57-4CD5-88A3-3A3BA43E095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A61C903-1053-4081-A53F-6417F055D31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C5D6D3A-9810-4737-8063-9124EB8AB69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53F3A8F-2C99-49E7-894F-61DB899A608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7B51FDA-7144-4E8D-930C-37B15C88680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E346715-425E-480F-A7F6-259CCA8F328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D642F0F-238A-4288-8EA1-E7C702BD53C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0C9AB8D-C1D5-4838-BE35-97875B1B396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9A465FB-253A-4325-99CA-D362B3EB651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625906-0448-4BA9-920D-8F5EF761D11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B48144-2DB2-4CB6-A417-B1BC9032D9C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40F6072-F8D3-4526-A277-D09ACE5DCC9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0C348D4-5B14-4A74-ADDB-51B35E910AB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0FFC5B0-5565-4F15-AF2F-66EA4CB9048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7BB29D4-EF5B-4140-ADA9-FD461738E20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48939E89-EECC-4C62-91D0-D6137C9E6CCC}"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7A2AFAAE-0E33-458B-861A-FA3FC289706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BAE33737-67DE-44D5-AB0E-3C9C8169A8F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4FB16684-BDF8-47D3-86D7-10557932D56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81FA5DBB-122E-4D8F-A1CD-0275D60891B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368BFA4F-4ADD-426C-A157-1ABA4F9C359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AE303FFD-D029-4091-88A8-0E7B1121C5B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445FFF9E-E335-43F3-991C-7D0DB27A248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09E20114-EDAB-417F-9CE8-1F34D153BE0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4D09EAF0-E8AC-4917-A481-5EC6C65A123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A63B17E4-C8A6-48D5-9E76-CADCC6E78CA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1E5CE40A-7957-481E-934B-EA649A1BAC6F}"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E3EBAF15-15A5-458F-B9E3-1B4C9469D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8957FA-2CBD-439E-A66B-17D7D518C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ABBA6F-DB0F-4498-AD7D-97D9C7966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5F5C4-295B-45B9-BB92-0EBBEB5C7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48DD65-9CF4-4D5F-BF1E-75FC0E0CD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04FA15-E145-4C59-A179-8DD8C4E9B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C7904BD2-57A5-4B3E-8F28-3474905F3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A37F3-58DC-43A0-BCDA-1DEF80757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97CC0-33DB-4C9B-9826-1BA3F2D16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DE2CF-71CA-40D9-BA7A-CB88A0E76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37888-776D-4D4C-8958-CD0061E78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7EC53B-A18D-403B-8400-474F1C48D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252B78-9AE9-4AAD-98DA-0A6E4415BA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584DB3-2114-4A54-AC9A-2BD6ABB1A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B84D49E-370C-4BA5-977D-E5FB7FC920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59EB90-97B9-4A46-AF6D-BEE852C635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139476-1C09-4C61-8B76-2DCA9B4698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DC0017DB-A070-4128-B441-E13FABB6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CF6B79-21D4-45A9-ABCE-6C1A5495EB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9FF8D0-6823-48BE-B19D-5B5D4123EC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A4FCB8-524D-4F7C-A71D-A08C07EE5E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75BB07-EFA3-4B5E-B4AA-07F9C07EF4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5A520C-96B7-49D3-8429-19E16A298F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5B1F13-DA45-43D0-B58C-79A96F4EA6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7D7A7F-DEB1-42DB-8598-EFFD45F7BB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2AB2B8-2E78-441E-8EF1-5792C28300D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FAD08BD-1B29-4E33-BE80-6F1728AF5A7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2663145-3DAA-4D9A-A958-6B8AFE1D91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98816013-9202-4EE0-81B3-4DAF4767E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03959C-725B-435A-871A-1362B2FDB9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54A031-BD9B-4B52-A07A-89E6A6E857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3809AD-2DE5-4A1A-AC29-EEC083C1BE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10DC29-873E-4322-A59E-6E32B26451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611068-024C-4DF0-9509-81E72050F9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9FFD77-6B6E-41E5-B236-0E9207F03B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4B516C-638C-4363-9AF6-BCB17AE9FD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80A183-8B4A-4DD3-96C1-88FD99E811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C6F5F4-F609-4C19-8535-0B0BEA151F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65006EB-48B9-474C-92E2-8A34B929F29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8E63C39D-0F64-46DF-9D08-A3E9EC8C5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FE6BCAE-F7EE-4B2F-B29B-A6912056E3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D519E6C-89CA-4289-AF39-04AC2F14227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2806A34-4B2D-45CF-9F2D-E637DAB570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DE853CF-C8FD-40CE-AC93-971D72E61AB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016E3F-5D15-4390-BCFA-D026E238542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B079FB-1A5A-4CFA-BE68-48B510B5319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BA1C88D-8603-4B64-A518-2F938D8FBE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7D8147-3B0D-4E38-AB79-494A74050B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E9A844D-E7D1-4F50-8D21-976A729939A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EA710A-80D4-4103-9839-37C6510967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4A907E03-7C54-40EB-8CDF-42F08FF0A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3ECA19-F200-4C4A-8E0E-4E9B1FD0034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D0D5251-1CCD-4F8F-A4F4-D363D30E91E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A169D52-BF5F-40A0-BF37-B7908827666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DDC642A-1A22-46A0-B22C-195D56E873D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352095F-4551-4240-8C75-226DEF25DAF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E67B7B5-71E3-4577-A9DC-DA5704B139E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AB0AAEA-A227-4E8F-93FB-971EA6C54AB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F83950E-3BA1-4C9B-8FBD-CFD65A5CE14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21CAE4-EC10-4E11-8251-6A5B71E5BA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68C9B7-864E-4DA7-AFFA-6B72E93AC2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BF64CABC-72D9-4F14-9A64-7D50DF14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35211F4-1D4A-43DF-9046-5D156F65F4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40AB68C-8525-4B31-9CEF-C8EC9300F7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A252E16-11FA-4EAF-A184-C6BC87B3368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674C2C2-87E3-4926-BEAC-F60AE6AB49F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8ADA21E-8EF0-45A5-B2E4-DF50CC04C5E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EF46CCF-1773-423B-9D44-71B29E44075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A4E54BD-6996-42A4-BACB-A3E234A9C43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B958E7-6971-447D-A79F-E01674AAD52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14630A0-7A48-492D-A89A-9BA5B4EE40F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05C9B91-C96C-4B97-AD57-F8181764661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3EAA4794-872B-449D-8102-C9D01111D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45F26F5-F44F-46F5-8E56-782C7AABA4E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CEEAAAD-5BAD-44A3-B754-100E239CEA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80B4C89-63F9-4923-A614-437E844B1A6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06D40AE-26F2-4136-87F6-5ADDC35245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5DB2E08-F81C-4BD5-A76D-722AE799EAA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55A073E-75D5-4894-9F1D-2DBDFC2B98A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C4E6E7F-EC32-4F03-9581-CCE4C1C808C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C84313F-9F51-4F4F-A763-3EDAF617E26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29D3C5B-2D97-4639-959C-D3003C98145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B88D7FE-514D-4EF0-A8FF-EDEC06654CE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70DD-0040-4D72-A7B0-8E5306DBEA4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E418-13D2-4A3B-A305-9F23952864F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EF00-55C7-46CA-9142-3B6715D6ED1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EB31-B2D5-421D-9926-B2D54F95F0D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D46E-C517-4D18-895F-6EDD3189A3D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49DF-4A37-4449-B9C2-45C80507923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D9E4-EF8E-48AF-9BBD-3735E054A2E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F528-A852-411C-A29C-D5318864C95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2F64-AE8C-4810-B788-46FD5ABC139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97B2-59D0-4201-9923-3EFD551E4B8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46CC-CCFF-4B8F-82A2-AE5E8B9D841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8340-7A91-4745-843B-0B0D5BF7FD9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782440" y="1103040"/>
            <a:ext cx="5545080" cy="4197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89e"/>
                </a:solidFill>
                <a:latin typeface="Arial"/>
                <a:ea typeface="SimSun"/>
              </a:rPr>
              <a:t> </a:t>
            </a:r>
            <a:br>
              <a:rPr sz="2000"/>
            </a:br>
            <a:r>
              <a:rPr b="1" lang="en-US" sz="2000" spc="-1" strike="noStrike">
                <a:solidFill>
                  <a:srgbClr val="00389e"/>
                </a:solidFill>
                <a:latin typeface="Arial"/>
                <a:ea typeface="SimSun"/>
              </a:rPr>
              <a:t>QUALITY RETURNABLES FOR </a:t>
            </a:r>
            <a:br>
              <a:rPr sz="2000"/>
            </a:br>
            <a:br>
              <a:rPr sz="2000"/>
            </a:br>
            <a:r>
              <a:rPr b="1" lang="en-US" sz="2000" spc="-1" strike="noStrike">
                <a:solidFill>
                  <a:srgbClr val="00389e"/>
                </a:solidFill>
                <a:latin typeface="Arial"/>
                <a:ea typeface="SimSun"/>
              </a:rPr>
              <a:t>THE TRANSMISSION SECURITY SECURITY INTELLIGENT AND INVESTIGATIONS</a:t>
            </a:r>
            <a:br>
              <a:rPr sz="2000"/>
            </a:br>
            <a:br>
              <a:rPr sz="2000"/>
            </a:br>
            <a:r>
              <a:rPr b="1" lang="en-US" sz="2000" spc="-1" strike="noStrike">
                <a:solidFill>
                  <a:srgbClr val="00389e"/>
                </a:solidFill>
                <a:latin typeface="Arial"/>
                <a:ea typeface="SimSun"/>
              </a:rPr>
              <a:t>DATE: 26 SEPTEMBER 2022</a:t>
            </a:r>
            <a:br>
              <a:rPr sz="2000"/>
            </a:br>
            <a:br>
              <a:rPr sz="2000"/>
            </a:br>
            <a:r>
              <a:rPr b="1" lang="en-US" sz="2000" spc="-1" strike="noStrike">
                <a:solidFill>
                  <a:srgbClr val="00389e"/>
                </a:solidFill>
                <a:latin typeface="Arial"/>
                <a:ea typeface="SimSun"/>
              </a:rPr>
              <a:t>VENUE: MS TEAMS</a:t>
            </a:r>
            <a:br>
              <a:rPr sz="2000"/>
            </a:br>
            <a:br>
              <a:rPr sz="2000"/>
            </a:br>
            <a:r>
              <a:rPr b="1" lang="en-US" sz="2000" spc="-1" strike="noStrike">
                <a:solidFill>
                  <a:srgbClr val="00389e"/>
                </a:solidFill>
                <a:latin typeface="Arial"/>
                <a:ea typeface="SimSun"/>
              </a:rPr>
              <a:t>COMPILE BY PHUTI RATAU</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 fall under objective Creteria</a:t>
            </a:r>
            <a:endParaRPr b="0" lang="en-US" sz="2400" spc="-1" strike="noStrike">
              <a:solidFill>
                <a:srgbClr val="ffffff"/>
              </a:solidFill>
              <a:latin typeface="Arial"/>
            </a:endParaRPr>
          </a:p>
        </p:txBody>
      </p:sp>
      <p:sp>
        <p:nvSpPr>
          <p:cNvPr id="606"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Contractual Requirements: </a:t>
            </a:r>
            <a:endParaRPr b="0" lang="en-US" sz="2000" spc="-1" strike="noStrike">
              <a:solidFill>
                <a:srgbClr val="003896"/>
              </a:solidFill>
              <a:latin typeface="Arial"/>
            </a:endParaRPr>
          </a:p>
          <a:p>
            <a:pPr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No scoring during enquiry phase, just an indication that the supplier has met the requirements listed under the Category issued. If there are any outstanding information, the buyer will be informed to request the information from the supplier. The buyer will stipulate the response time for the outstanding information. On resubmission, the Quality rep will evaluate the submitted information and revise the evaluation report accordingly.</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0550-D7D4-4095-96DA-67DF459ADFF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E8D5-A4D3-4879-872D-3E521273707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09" name="PlaceHolder 1"/>
          <p:cNvSpPr>
            <a:spLocks noGrp="1"/>
          </p:cNvSpPr>
          <p:nvPr>
            <p:ph type="title"/>
          </p:nvPr>
        </p:nvSpPr>
        <p:spPr>
          <a:xfrm>
            <a:off x="436320" y="166680"/>
            <a:ext cx="687204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documents issued with the enquiry</a:t>
            </a:r>
            <a:endParaRPr b="0" lang="en-US" sz="2400" spc="-1" strike="noStrike">
              <a:solidFill>
                <a:srgbClr val="ffffff"/>
              </a:solidFill>
              <a:latin typeface="Arial"/>
            </a:endParaRPr>
          </a:p>
        </p:txBody>
      </p:sp>
      <p:sp>
        <p:nvSpPr>
          <p:cNvPr id="610" name="PlaceHolder 2"/>
          <p:cNvSpPr>
            <a:spLocks noGrp="1"/>
          </p:cNvSpPr>
          <p:nvPr>
            <p:ph/>
          </p:nvPr>
        </p:nvSpPr>
        <p:spPr>
          <a:xfrm>
            <a:off x="324000" y="1196640"/>
            <a:ext cx="8378640" cy="5256360"/>
          </a:xfrm>
          <a:prstGeom prst="rect">
            <a:avLst/>
          </a:prstGeom>
          <a:noFill/>
          <a:ln w="0">
            <a:noFill/>
          </a:ln>
        </p:spPr>
        <p:txBody>
          <a:bodyPr anchor="t">
            <a:normAutofit/>
          </a:bodyPr>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upplier Quality Management Specification</a:t>
            </a: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Form A</a:t>
            </a: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Category 4</a:t>
            </a: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E343-7D28-46EB-8575-99467339636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1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 A</a:t>
            </a:r>
            <a:endParaRPr b="0" lang="en-US" sz="2400" spc="-1" strike="noStrike">
              <a:solidFill>
                <a:srgbClr val="ffffff"/>
              </a:solidFill>
              <a:latin typeface="Arial"/>
            </a:endParaRPr>
          </a:p>
        </p:txBody>
      </p:sp>
      <p:sp>
        <p:nvSpPr>
          <p:cNvPr id="613" name="PlaceHolder 2"/>
          <p:cNvSpPr>
            <a:spLocks noGrp="1"/>
          </p:cNvSpPr>
          <p:nvPr>
            <p:ph/>
          </p:nvPr>
        </p:nvSpPr>
        <p:spPr>
          <a:xfrm>
            <a:off x="436680" y="1436400"/>
            <a:ext cx="8378640" cy="4079880"/>
          </a:xfrm>
          <a:prstGeom prst="rect">
            <a:avLst/>
          </a:prstGeom>
          <a:noFill/>
          <a:ln w="0">
            <a:noFill/>
          </a:ln>
        </p:spPr>
        <p:txBody>
          <a:bodyPr anchor="t">
            <a:normAutofit fontScale="99000"/>
          </a:bodyPr>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Template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Must be completed with the </a:t>
            </a:r>
            <a:r>
              <a:rPr b="1" lang="en-US" sz="2000" spc="-1" strike="noStrike" u="sng">
                <a:solidFill>
                  <a:srgbClr val="003896"/>
                </a:solidFill>
                <a:uFillTx/>
                <a:latin typeface="Arial"/>
              </a:rPr>
              <a:t>enquiry</a:t>
            </a:r>
            <a:r>
              <a:rPr b="0" lang="en-US" sz="2000" spc="-1" strike="noStrike">
                <a:solidFill>
                  <a:srgbClr val="003896"/>
                </a:solidFill>
                <a:latin typeface="Arial"/>
              </a:rPr>
              <a:t> scop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Where it indicates “Tenderer” , that is required by YOU to complete.</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35f"/>
                </a:solidFill>
                <a:latin typeface="Arial"/>
              </a:rPr>
              <a:t>This Form is an indication that the “Tenderer “ has read the Supplier Quality Management Specification and agrees to comply with the requirements.</a:t>
            </a:r>
            <a:endParaRPr b="0" lang="en-US" sz="28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36680" y="166680"/>
            <a:ext cx="6519600" cy="666720"/>
          </a:xfrm>
          <a:prstGeom prst="rect">
            <a:avLst/>
          </a:prstGeom>
          <a:noFill/>
          <a:ln w="0">
            <a:noFill/>
          </a:ln>
        </p:spPr>
        <p:txBody>
          <a:bodyPr anchor="ctr">
            <a:no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y 4 – Submission Requirements</a:t>
            </a:r>
            <a:endParaRPr b="0" lang="en-US" sz="2400" spc="-1" strike="noStrike">
              <a:solidFill>
                <a:srgbClr val="ffffff"/>
              </a:solidFill>
              <a:latin typeface="Arial"/>
            </a:endParaRPr>
          </a:p>
        </p:txBody>
      </p:sp>
      <p:sp>
        <p:nvSpPr>
          <p:cNvPr id="615" name=""/>
          <p:cNvSpPr txBox="1"/>
          <p:nvPr/>
        </p:nvSpPr>
        <p:spPr>
          <a:xfrm>
            <a:off x="108000" y="1125360"/>
            <a:ext cx="8856720" cy="518328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1. SECTION A : Quality Management System Requirements ISO 9001</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1 Quality Method statement based on scop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2 Quality Policy Approved by top management.</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3 Quality Objectives Approved by top management.</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2. SECTION B :    Evidence of QMS in operation</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B.1 Documented information for defined roles, responsibilities and authoritie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B.2 Documented information for Control of Externally Provided Processes, Products and Services</a:t>
            </a:r>
            <a:endParaRPr b="0" lang="en-US" sz="2000" spc="-1" strike="noStrike">
              <a:solidFill>
                <a:srgbClr val="003896"/>
              </a:solidFill>
              <a:latin typeface="Arial"/>
            </a:endParaRPr>
          </a:p>
        </p:txBody>
      </p:sp>
      <p:sp>
        <p:nvSpPr>
          <p:cNvPr id="61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FEFB-F9F5-4BA4-BAA3-2E08D47F3C3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618" name="Picture 56" descr=""/>
          <p:cNvPicPr/>
          <p:nvPr/>
        </p:nvPicPr>
        <p:blipFill>
          <a:blip r:embed="rId2"/>
          <a:stretch/>
        </p:blipFill>
        <p:spPr>
          <a:xfrm>
            <a:off x="5435640" y="6213600"/>
            <a:ext cx="3197160" cy="3142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Phuti Ratau</cp:lastModifiedBy>
  <dcterms:modified xsi:type="dcterms:W3CDTF">2022-09-26T05:36:37Z</dcterms:modified>
  <cp:revision>33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